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907588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95F38C-7C21-4E7F-ACE7-48F21CB92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5331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1" lang="en-US" sz="35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A2D0EA-7A07-4D5F-B62C-6079C248E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1760" y="5331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1" lang="en-US" sz="35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A18161-5159-4516-886F-CAD3CACC3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1760" y="5331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1" lang="en-US" sz="35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A449A2-16A6-4C5A-9E6C-3E0E69753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1760" y="5331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1" lang="en-US" sz="35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1760" y="5331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1" lang="en-US" sz="35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1760" y="5331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1" lang="en-US" sz="35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1760" y="5331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1" lang="en-US" sz="35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761760" y="533160"/>
            <a:ext cx="83818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1760" y="5331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1" lang="en-US" sz="35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1760" y="5331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1" lang="en-US" sz="35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7F459B-AC52-41B1-8B66-FEA8E070C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61760" y="5331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1" lang="en-US" sz="35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61760" y="5331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1" lang="en-US" sz="35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61760" y="5331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1" lang="en-US" sz="35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1760" y="5331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1" lang="en-US" sz="35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61760" y="5331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1" lang="en-US" sz="35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1760" y="5331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1" lang="en-US" sz="35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72CF81-3B7F-4FD9-835E-FF90A052A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5331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1" lang="en-US" sz="35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3FF158-4824-4AF0-B6D9-53976B06C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1760" y="5331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1" lang="en-US" sz="35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A63721-6D43-4095-BB47-3A5901E79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1760" y="533160"/>
            <a:ext cx="83818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673DE3-7E7C-4BBB-B15E-3572CDD2A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1760" y="5331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1" lang="en-US" sz="35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2E5801-0574-45D5-8C61-DAD809EA6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1760" y="5331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1" lang="en-US" sz="35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456C37-D3E9-474C-A94D-60B4E91AA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1760" y="5331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1" lang="en-US" sz="35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83F2A9-ABDA-4A9F-AE4D-C2D28759E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5331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1" lang="en-US" sz="35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5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295280" y="6477120"/>
            <a:ext cx="6896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marL="384120" indent="-38412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46080" indent="-2728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53960" indent="-217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762200" indent="-21744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170080" indent="-21744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170080" indent="-21744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170080" indent="-21744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90280" y="6476760"/>
            <a:ext cx="6324840" cy="2286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9066240" y="6476760"/>
            <a:ext cx="534960" cy="15228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  <a:defRPr b="0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20384729-E49E-4A44-8AF1-A9B65B3870D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6477120"/>
            <a:ext cx="533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>
            <a:off x="685800" y="6476760"/>
            <a:ext cx="838080" cy="15228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  <a:defRPr b="0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97FEBD97-3AAF-417F-BA25-929BCAB1F4BD}" type="datetime">
              <a:rPr b="0" lang="en-US" sz="9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8229600" y="6093000"/>
            <a:ext cx="915840" cy="595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706840" y="4994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3560" bIns="43560" anchor="t">
            <a:spAutoFit/>
          </a:bodyPr>
          <a:p>
            <a:pPr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276720" y="6248520"/>
            <a:ext cx="3301920" cy="4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TMicroelectronic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04920" y="6477120"/>
            <a:ext cx="2971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6477120"/>
            <a:ext cx="2897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1760" y="22856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1" lang="en-US" sz="38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66ccff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3983040" y="603360"/>
            <a:ext cx="1925640" cy="12254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436680" indent="0" algn="ctr">
              <a:spcBef>
                <a:spcPts val="601"/>
              </a:spcBef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73000" indent="26352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09680" indent="23508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744560" indent="208080" algn="ctr">
              <a:spcBef>
                <a:spcPts val="425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5" marL="1744560" indent="208080">
              <a:spcBef>
                <a:spcPts val="425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6" marL="1744560" indent="208080">
              <a:spcBef>
                <a:spcPts val="425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61760" y="22856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1" lang="en-US" sz="3400" spc="-1" strike="noStrike">
                <a:solidFill>
                  <a:srgbClr val="66ccff"/>
                </a:solidFill>
                <a:latin typeface="Arial"/>
              </a:rPr>
              <a:t>PD57030E</a:t>
            </a:r>
            <a:br>
              <a:rPr sz="3400"/>
            </a:br>
            <a:r>
              <a:rPr b="1" lang="en-US" sz="3400" spc="-1" strike="noStrike">
                <a:solidFill>
                  <a:srgbClr val="66ccff"/>
                </a:solidFill>
                <a:latin typeface="Arial"/>
              </a:rPr>
              <a:t>945 MHz validation</a:t>
            </a:r>
            <a:br>
              <a:rPr sz="3400"/>
            </a:br>
            <a:r>
              <a:rPr b="1" lang="en-US" sz="3400" spc="-1" strike="noStrike">
                <a:solidFill>
                  <a:srgbClr val="66ccff"/>
                </a:solidFill>
                <a:latin typeface="Arial"/>
              </a:rPr>
              <a:t>Gfs validation</a:t>
            </a:r>
            <a:endParaRPr b="1" lang="en-US" sz="3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761760" y="4495320"/>
            <a:ext cx="8381880" cy="8384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Autofit/>
          </a:bodyPr>
          <a:p>
            <a:pPr indent="0" algn="ct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Malvern,PA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1415880" y="533520"/>
            <a:ext cx="7074000" cy="5562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8E9A61-1E63-4B86-B6D9-1B3CBEA4325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101600" y="647640"/>
            <a:ext cx="7701120" cy="5334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57DDDD-E162-49F9-980F-F893DCDDAE7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114560" y="533520"/>
            <a:ext cx="7677000" cy="5562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0F84F1-1B8A-49B0-88CE-4601F3EB194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114560" y="533520"/>
            <a:ext cx="7677000" cy="5562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9A224E-C37F-4587-81C7-A5FEE4BD015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101600" y="546120"/>
            <a:ext cx="7701120" cy="5535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E22A77-CA77-4EFF-AC50-468AC8ECF3F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23T15:31:40Z</dcterms:created>
  <dc:creator>john pritiskutch</dc:creator>
  <dc:description/>
  <dc:language>en-US</dc:language>
  <cp:lastModifiedBy>john pritiskutch</cp:lastModifiedBy>
  <dcterms:modified xsi:type="dcterms:W3CDTF">2007-08-10T18:01:15Z</dcterms:modified>
  <cp:revision>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2140899404</vt:r8>
  </property>
  <property fmtid="{D5CDD505-2E9C-101B-9397-08002B2CF9AE}" pid="3" name="_AuthorEmail">
    <vt:lpwstr>john.pritiskutch@st.com</vt:lpwstr>
  </property>
  <property fmtid="{D5CDD505-2E9C-101B-9397-08002B2CF9AE}" pid="4" name="_AuthorEmailDisplayName">
    <vt:lpwstr>john PRITISKUTCH</vt:lpwstr>
  </property>
  <property fmtid="{D5CDD505-2E9C-101B-9397-08002B2CF9AE}" pid="5" name="_EmailSubject">
    <vt:lpwstr>ST LDMOS - Call Action Items  p# PD57030-E</vt:lpwstr>
  </property>
  <property fmtid="{D5CDD505-2E9C-101B-9397-08002B2CF9AE}" pid="6" name="_NewReviewCycle">
    <vt:lpwstr/>
  </property>
</Properties>
</file>